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C0F0-C293-4263-88FA-77BF2B5DE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wikispaces.psu.edu/display/Biology/The+Origins+and+Diversity+of+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phschool.com/science/biology_place/biocoach/transcription/tcproc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okresource.org/tok_classes/biobiobio/biomenu/transcription_translation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biology.kenyon.edu/courses/biol114/Chap05/Chapter05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E22A-2F2F-4BEA-B5B7-8B4DCED78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F07E-3AE6-48D0-8C39-717F51EB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5533-283A-4E17-8208-F3EBE04C2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242D-8870-4503-9805-8FA4E5A3F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D09F-87D8-44E9-AA8E-A4500354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F44B-385C-4714-9595-81E1DA51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F11E-7D93-4A0C-9449-057F121F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FF24-65B9-4CD3-8E87-EE67A969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C5CC-2C9E-47E4-A5B9-6034C7AD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C39E-34E1-4471-8F7B-71DBC13F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260D-CF8D-4971-BBE9-32420DA0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B573-0788-4012-8643-FE8D6E4A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01BF-7F46-4EEC-97C1-FCE78EA93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7wU97pTs-xE" TargetMode="External"/><Relationship Id="rId2" Type="http://schemas.openxmlformats.org/officeDocument/2006/relationships/hyperlink" Target="http://www.youtube.com/watch?v=7wU97pTs-xE" TargetMode="External"/><Relationship Id="rId3" Type="http://schemas.openxmlformats.org/officeDocument/2006/relationships/hyperlink" Target="http://www.youtube.com/watch?v=7wU97pTs-xE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om Gene to Protei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Extraction explain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found this short video that might help you to understand the steps in our DNA extraction tomo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youtube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com/watch?v=7wU97pTs-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n’t it remind you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o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ries of vide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ntral Do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s the flow of information from DNA to RNA to prote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crip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DNA to 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mRNA to polypept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&amp; 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11280" y="1981080"/>
            <a:ext cx="6121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ssenger RNA (mR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fer RNA (tR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bosomal RNA (rR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Tran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467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NA polymerase creates mRNA molecule complementary to template strand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01840" y="3352680"/>
            <a:ext cx="61862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bosome translates mRNA and assembles an amino acid chain using t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43040" y="2895480"/>
            <a:ext cx="60102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57360" y="1981080"/>
            <a:ext cx="602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Code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rt co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p cod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23:49:34Z</dcterms:created>
  <dc:creator>rubina khan</dc:creator>
  <dc:description/>
  <dc:language>en-US</dc:language>
  <cp:lastModifiedBy>rubina khan</cp:lastModifiedBy>
  <dcterms:modified xsi:type="dcterms:W3CDTF">2013-04-22T04:37:16Z</dcterms:modified>
  <cp:revision>68</cp:revision>
  <dc:subject/>
  <dc:title>Molecular Genetics</dc:title>
</cp:coreProperties>
</file>